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389-8AC5-4E5E-975E-F61A0659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B03-94BE-4E2E-8FF7-715FF64B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6A6-38F3-4F24-9AFF-3BDEED0C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156-F882-4FE9-BC5B-68EBF263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0F9C-95B6-49A0-B38C-B92D9D85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9236-AA46-49E1-884A-D2CFFF0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14BC-1235-481B-961B-B65F5982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DA28-262C-4A54-B209-1BE9BC0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E0E8-7CD8-4038-BCC3-D4FEE402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CC6D-6ECC-4DC1-AA46-D7DC31BC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28EB-E62B-4CB8-B84A-010F7902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589-BBC6-4ECA-8070-10AFEDEE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9E8A-1D4D-4E3E-B3B1-299D502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EA19-916B-4859-A3FA-6C0A5E19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371C-CFC8-42A8-BB1E-8B3901FC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F659-59CA-4A6E-9142-6AC8F8D4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E92-8166-49AA-AF24-F1CCAAE5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70E-DF5E-40D4-B7F5-DC6E9F9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031-3EC2-4919-A132-4ABE1116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584-D005-4BBC-8118-4BE715B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54E-1313-4879-8725-ACC35FF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778-101F-4EBD-813A-F88C94FB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395-4041-4796-9B7B-A665526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152-7F9D-44C1-B5F0-27E2723E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5CB-B557-43E6-BED3-530B08B63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BFCA-B855-497B-BFBC-7FE596B54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 Black"/>
                <a:ea typeface="华文黑体"/>
              </a:rPr>
              <a:t>Nick’s awesome power point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Using the possessive apostroph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4100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lure of nick=nick’s lur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590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114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 if there isn'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2670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’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4100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chalk of jess=jess’ chalk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590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114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 if there isn'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2670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s’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86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base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286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124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out letters you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missing letters with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876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’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e will play footy=we’ll play foot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base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286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124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out letters you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missing letters with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876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’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2:22Z</dcterms:created>
  <dc:creator>502</dc:creator>
  <dc:description/>
  <dc:language>en-US</dc:language>
  <cp:lastModifiedBy>502</cp:lastModifiedBy>
  <dcterms:modified xsi:type="dcterms:W3CDTF">2009-08-12T04:11:42Z</dcterms:modified>
  <cp:revision>3</cp:revision>
  <dc:subject/>
  <dc:title>Nick’s awesome power point </dc:title>
</cp:coreProperties>
</file>